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31E8-8DA8-4CE4-A10A-34CA13F4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FDC-0687-4533-B856-9AE5AF5B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C24EC-A950-4899-BB18-A31CFBB3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7C612-A2FC-4AED-B09D-C8F74C74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B76DC-763E-4826-A9F2-C442AC5D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1892A-E795-48B6-A9B0-68CBF3D1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746E3-0B9E-4F14-9BC7-54CCE4F7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740F1-9BBA-45C2-9C99-E68F2CA9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A08C6-F3DB-4BD3-B500-C1D2E594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A4B3C-DE9B-4B04-8D84-20635536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1BF39-C2CA-454D-A964-362582A2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FC9E4-B31B-4561-8F2F-40533EFD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786-781F-4BA5-B9E7-14844A78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43185-A8BA-45A8-BD04-FB069FED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4D562-F5AB-4D5D-9F83-52F39254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3FBB1-975A-43E8-B39A-9C6E3624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85BDF-9B4A-4FF1-B1B0-16A4F954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B6948-CD11-44CD-B158-3A946399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06A53-0274-48F2-8E88-DDDAC558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E62C6-CE25-40C9-A660-7D7429A2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A3D14-8FB0-4D2F-BD7A-8FA7B1B1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F27D5-8DD3-401A-A7B7-F9035677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8EF6A-2BCE-4939-B75B-2BD9000C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9ED-82A5-4DDE-8639-551A0CD2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08CF2-3064-4279-BDC0-9D6FFAC9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377C1-BE7C-4419-933F-63B6D8D1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88A96-6F02-42AD-B2A3-50079FC8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B557B-99B8-456A-B3C3-108016FF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E19B9-5426-4D1C-9C5B-A02D5074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71A3D-E152-4E31-BFCE-BA7220CD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1E469-357E-436B-89A9-1BBAFEFE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06599-E2E4-4B60-8CDB-CDC0628A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B76FD-D6B7-49B5-A62A-A3DDC1BF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15B34-696B-4E4F-8DDC-7086EDCB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01DB-B4D5-4974-BE30-07D76944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2B42B-D6AA-49D5-9DA4-D09D31E2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DE73F-EA69-4B22-9635-6B83B373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D8546-CB0E-4239-929F-49C7B1E9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1D7FD-8219-46A3-AEE2-A8814176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031C5-8D27-4719-95B8-94BB994A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8EF63-F51C-4813-BE76-7492074D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6C015-78EF-4CF4-B00D-942A79A7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41ECC-4BB3-4E15-B516-8D70D6AE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88C24-9690-460F-9CBF-97834172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94BA7-127F-41AF-BCB8-92F93621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9F94-9F40-431E-A0C5-C194E935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6A3E5-5BC4-4C5E-BCA8-D7422C9E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C1B0E-256F-4BF8-91E2-21B67C57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66348-3147-4982-BA31-209704F5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16B84-28AE-4015-9D43-66D9E603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437B9-444A-458D-BAF8-EB8B25E4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F89A-F4FB-475C-8BCB-97BF2A5B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00E1-7841-40E1-BC07-C7F8C446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FA55-DB3D-4EE8-877B-8E557EC5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BF37-CCA6-49DF-8DFB-E433C67D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4EAB-516B-4EDB-BE4B-2B67903F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DED3-C0FA-4A35-B89D-CABB9378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A49D-D0A8-47A6-8C0B-23DD2394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30C0-3F6B-40C5-8656-332488FA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F275-506D-4F42-BFB6-7E207D9E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2E39-3912-429E-A238-45D9E2F2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6496-FCAF-4891-849A-A74A74BC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CFD52-321D-4239-ADFF-B58939B3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4AFDF-3DAC-4A0A-B222-E36CE6C6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241E6-2FD4-4AE1-A933-36A5A839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2B2A9-6251-452F-9CC0-C4C61D0F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F01A8-76BD-49A0-B60C-DC5BE9C7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CBC-CC3B-4690-A6DC-387BB404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EE8E0-A439-458F-8547-420A0082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AE568-53E4-4D95-8B53-C1B45D48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0C12-5D50-48E7-BFD0-08202D15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A98CD-D0FD-47FC-8997-0EA1A447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9CE61-BFCB-4E7A-8E70-BE5DB90F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7608F-0671-438F-A00B-341D45C7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E067C-50CD-4145-A558-4DB1C56E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A9793-9949-44FA-A159-2F5B8C0C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2D052-040E-4646-8055-785A0A63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85E66-9C61-4252-A57D-720E1839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3406-BA71-44A9-BF4A-1ECC8A6B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04CF6-486B-4FD4-83A8-C527DA4B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EC490-F2CD-4334-A790-4400D186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EAE00-CC1C-452B-A833-3FE9240A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77BA0-44F2-42F4-B7F1-5980D955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2D9A6-D9F8-4F08-A77F-9F8BE76A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24A89-6BE3-4F2D-A553-BC3D0776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661E0-30F1-4CB6-B8BD-1EB07879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EA91E-1313-4410-9971-6EF643D5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22679-97D7-4D3C-88B1-13A7445E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EC783-0C80-494A-A060-4F6DD93C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026-90B7-4C21-BA7A-8A27928C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6752C-F995-4815-8C97-89B1C1F1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8A526-E747-4A77-BCF7-17EAADCC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08797-1368-4E82-9619-4CD88A57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23477-56F8-459F-86C4-7EE32DEA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7707A-7E3E-4C9C-85D9-A4A86370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A5799-F254-4038-A5B8-4F246D4D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98630-3179-484A-BB28-33BB8F12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58F6D-CA2A-40FB-8F3E-9364FF0F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F97CC-6D73-4780-89FD-960D5440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7484E-DDF8-4C26-A802-DE97E99C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5094-20D6-4A8E-A4C7-3AB256B3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28974-4743-421B-9204-2B4A771B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3F5D4-70C9-4EFD-9FFF-BD56F7FF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61810-B8DF-4C04-9DDB-3B8D3B5D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47C1D-2B3B-473A-93CA-ADB254A1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F7724-4C2A-4D45-95D4-EA944482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B7EA1-B3EC-4A5A-87F0-E9E61B1A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D3443-356A-41B0-B289-8B82E9F4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5CD0E-2F3E-4FFA-8E8A-9DAE506C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4BB98-6280-4CCE-AF17-9A866D74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7F804-8AB9-42F6-8164-3BFF50F1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A4FD-8B34-424C-AFD6-C4F1F561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F728D-B1E7-4289-9D3B-793791D6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1BECD-C0B4-4350-8B0E-A219AC4B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D274C-6E08-46A2-8539-71D49BA4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96E95-911D-4626-9925-A966D23E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F311A-8A79-4AC9-BFEC-9F3F5340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09ED0-AEB6-482F-A56B-B5A10585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383B0-9B44-419E-98A9-48A0F8E8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0BC44-819A-41E9-AC12-8BC32257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9A31A-3D33-48C8-94A9-B4AFAB4D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A3615-A37B-4BE0-B4BC-14D6CCBA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E15-9ECE-4C73-8274-7294B28E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2A9DF-838C-4F36-A903-341ACF5F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90A14-4330-4743-98F0-02BB5A5F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3107D-B315-43B5-8B61-94B4238E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9981F-5141-420A-855B-09EDC0C5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AD454-0FE5-4BDC-ABE9-386F1632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7CD5C-07BD-4C19-AEC6-B7908233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A82A3-B9C5-4966-B7CA-FF12ABE5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232E0-2A17-4F3E-8C41-827F7352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F5BB8-63F8-40FE-89B2-F67C052D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F4949-1C59-4463-BAAE-4CE3389E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325-9471-4BB8-93A6-2FA20D30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5837F-F421-4F0C-A8DB-CCB07546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AC7D5-7141-45E7-91B5-4BABD28C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69E1F-0722-466B-96D8-F872FA47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874DF-392B-400F-A59C-3235CC23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A1179-6C57-4713-9F6F-EAC77F1B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47F3D-9127-4264-91F1-42E4C516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BB711-4E8A-4ED4-B68F-3B18EFB9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F664C-321D-4225-9CE6-20C47B1F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59D44-682F-4709-AFC5-775E32BF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B8E0E-CE9A-4299-BEA5-6953972E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3B68-CC52-45E9-B21D-C07C8921DBB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500F-4D48-46F5-8765-0F9DE456526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E449-8721-4A29-8107-8FD2C2014C4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25D6-F728-4B79-9122-5153402B6B6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95A3-FFCB-4678-98DD-B3DAD53C759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A621-7DA4-4019-BECE-957CD010A7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F02B-2852-4735-ADEA-D645DD658D3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C391-332A-4900-941C-A72D90F0FCD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F3AE-14DC-460D-86EA-C6C6EFA005C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7D00-670F-45F9-B284-C5318A639C3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909A-C9EF-4A3B-89C9-EF9AB7DC9FF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EF36-49C8-4655-99DB-CC74017D6D0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62 D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 d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ma, Ot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,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čo deň ma, Otče, ve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o tmy Slovom svojím sv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úprimnú mi srdce d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 láske svojej zachov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Hriech keď hroz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 všetkých str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ám pred pád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ždy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chráň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aj, nech včas sa zobud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ech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 nikdy nezradím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keď príde úzkosť, b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 vždy pri mne, Pane, st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bdar silou, múdrosť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hr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vojou milo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 tebou kráč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pred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vždy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smiem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slúžiť blížnym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s láskou chcem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ám ma v svojej blízk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chrá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a 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do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ost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7:48:30Z</dcterms:modified>
  <cp:revision>23</cp:revision>
  <dc:subject/>
  <dc:title>Je veľký náš Pán, on slávy je Kráľ Nech do všetkých strán  spev vrúcnych znie chvál.</dc:title>
</cp:coreProperties>
</file>